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374F-2F89-407A-8BD1-84B780CC1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EB1C-5AD8-4B9A-83EE-805D6BC27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17AF-A2F6-4ACD-A558-BA7E5E06D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AAC3-2D0B-4D26-8361-3791FB6FB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B5B0F-037D-4084-BBFE-6C8331302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C06AC-6365-4E53-B39E-A8291B86D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00D6A-8B51-44A4-8347-C3878C536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E4D16-DBBE-46A4-AFEC-FF33E6B8C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3A310-7261-4367-BB7F-F9D6EFE7D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B32ED-2266-4B42-BF6A-074CC0695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80945-B433-4442-8BA8-3B419DFEE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B886-1EC8-4BD5-91E8-4E992817E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351E2-4639-4A17-AD86-339FB626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09B97-B648-4722-8EF9-7A13C5EDD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9719E-7276-4F15-B4BF-859657F91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DE586-341D-4CE9-B1C6-DD21EDC2C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049CD-C1ED-4D41-A23B-6CB4D96E6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779A-458F-4170-BF39-44678D210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819B-253E-40BA-A956-9490F7359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9111-4534-410E-A60A-FDDE95D21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2CB0-0323-4CE6-91D9-57DD30195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BD0D-6E6F-413B-B5FB-6787DB02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576E-BE10-4F40-9886-44FAA76C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2BAC-3AB7-48B0-BFE6-7F39D05F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418D8-5D32-4813-803E-D04B7B369E9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3632F-312B-48B0-A5EA-5D5A776EDB0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b7"/>
                </a:solidFill>
                <a:latin typeface="Arial Black"/>
              </a:rPr>
              <a:t>Сочинение на лингвистическую тему.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удентка 341 гр. Кобзарь Ири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Основной вопрос нашего проекта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8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Что такое лингвистика?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ff66"/>
                </a:solidFill>
                <a:latin typeface="Arial Black"/>
              </a:rPr>
              <a:t>Вопросы, ответы на которые мы будем искать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 такое сочинени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ие бывают виды сочинений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ля чего мы пишем сочинени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 характеризует сочинение-рассуждени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ff66"/>
                </a:solidFill>
                <a:latin typeface="Arial Black"/>
              </a:rPr>
              <a:t>Дидактические цели проекта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учить учащихся писать сочинение на лингвистическую тему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общить раннее пройденный материал по теме «Сочинение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формировать у учащихся чувство самостоятельности и ответственност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учить учащихся формам групповой и фронтальной рабо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4" descr="Рисунок1"/>
          <p:cNvPicPr/>
          <p:nvPr/>
        </p:nvPicPr>
        <p:blipFill>
          <a:blip r:embed="rId1"/>
          <a:stretch/>
        </p:blipFill>
        <p:spPr>
          <a:xfrm>
            <a:off x="152280" y="4876920"/>
            <a:ext cx="1893960" cy="189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ff66"/>
                </a:solidFill>
                <a:latin typeface="Arial Black"/>
              </a:rPr>
              <a:t>Представление результатов исследования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- букле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- сочинение или эсс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- презентации доклад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- инсцениров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- формулировка правила (в таблице, схеме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- творческая презентац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лан проведения проекта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1. Выбор тем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2. Поиск информаци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3. Консультация преподавател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4. Самостоятельная работа учащихс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5. Защита проектов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 Black"/>
              </a:rPr>
              <a:t>Информационные ресурсы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ff66"/>
                </a:solidFill>
                <a:latin typeface="Arial"/>
              </a:rPr>
              <a:t>Справочник школьника. Русский язы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66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99ff66"/>
                </a:solidFill>
                <a:latin typeface="Arial"/>
              </a:rPr>
              <a:t>Под ред. В.Славкина – М., 1999 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Рисунок1-"/>
          <p:cNvPicPr/>
          <p:nvPr/>
        </p:nvPicPr>
        <p:blipFill>
          <a:blip r:embed="rId1"/>
          <a:stretch/>
        </p:blipFill>
        <p:spPr>
          <a:xfrm>
            <a:off x="3276720" y="3886200"/>
            <a:ext cx="266688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Удачи в работе над проектами!!!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асько</cp:lastModifiedBy>
  <dcterms:modified xsi:type="dcterms:W3CDTF">2010-05-22T16:46:28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